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FFEA-DDDE-4ED5-B33B-92DD1FBFC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2609-CE14-4AD8-86AD-43CD206C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F757-6988-420D-A2F1-0C27C17A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B5C8-E515-4990-A7AB-5CF56CDDE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66E2F-3FDB-4993-BD71-0F7EC088E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F3EA4-816E-4A51-B883-B3695E40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5627B-3231-4FC0-8FE2-3DE13ACB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D784D-C393-4144-9082-80610C0C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15913-D707-46D9-9197-D88D392C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59AE6-62B0-450A-A0A8-42CFEAF4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E98F3-B270-4EC8-8ED0-8B0D7864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81AC-83C1-442F-A1E6-F0ED9892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1EAB8-1D52-410E-9026-6A7B4FC8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64D926-B9A5-4D13-ACA6-B7724829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E00A2-6F16-46FA-95AA-214F37F8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47A73-DF38-4ECF-89DC-F1A240B49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E7C2A-607D-461E-82CE-E31BB4A0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48C0-9692-4F57-8A45-0F787429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7589-21D6-4FA1-96D1-E19E61F3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323D-26CF-4570-8A65-2A48960B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2D0F-00C1-4342-8BD4-58B2DC5E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F911-E05F-41FA-A9D5-907DDF2B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8EA7-68A4-405B-852B-78E15B45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19DB-DBC9-491F-AB7C-8161F2BB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B503-31EE-4B70-9B00-FB827FC81F06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608C-6D48-48A4-9F06-1A4F0D0CD469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NTE CASTEL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GIÃO URB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11280" y="2055240"/>
            <a:ext cx="8137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inda que eu falass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língua dos homen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 falasse a língua dos anjos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m amor eu nada seri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00000" y="1902600"/>
            <a:ext cx="727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ffff"/>
                </a:solidFill>
                <a:latin typeface="Times New Roman"/>
              </a:rPr>
              <a:t>Ainda que eu falasse</a:t>
            </a:r>
            <a:br>
              <a:rPr sz="4000"/>
            </a:br>
            <a:r>
              <a:rPr b="0" lang="pt-PT" sz="4000" spc="-1" strike="noStrike">
                <a:solidFill>
                  <a:srgbClr val="ffffff"/>
                </a:solidFill>
                <a:latin typeface="Times New Roman"/>
              </a:rPr>
              <a:t>A língua dos homens</a:t>
            </a:r>
            <a:br>
              <a:rPr sz="4000"/>
            </a:br>
            <a:r>
              <a:rPr b="0" lang="pt-PT" sz="4000" spc="-1" strike="noStrike">
                <a:solidFill>
                  <a:srgbClr val="ffffff"/>
                </a:solidFill>
                <a:latin typeface="Times New Roman"/>
              </a:rPr>
              <a:t>E falasse a língua dos anjos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ffff"/>
                </a:solidFill>
                <a:latin typeface="Times New Roman"/>
              </a:rPr>
              <a:t>Sem amor eu nada seri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16000" y="1988280"/>
            <a:ext cx="7040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É só o amor! É só o amor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 conhece o que é verdade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 amor é bom, não quer o mal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ão sente inveja ou se envaidec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14880" y="1988280"/>
            <a:ext cx="7783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 amor é o fogo que arde sem se ver;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É ferida que dói e não se sente;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É um contentamento descontente;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É dor que desatina sem do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71640" y="2133000"/>
            <a:ext cx="727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inda que eu falass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língua dos homen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 falasse a língua dos anjo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m amor eu nada seri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2160" y="1915560"/>
            <a:ext cx="8067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É um não querer mais que bem querer;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É solitário andar por entre a gente;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É um não contentar-se de contente;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É cuidar que se ganha em se perd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95280" y="1843920"/>
            <a:ext cx="8437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É um estar-se preso por vontade;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É servir a quem vence, o vencedor;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É um ter com quem nos mata a lealdade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ão contrário a si é o mesmo amo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11280" y="2018520"/>
            <a:ext cx="777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stou acordado e todos dormem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dos dormem. Todos dormem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gora vejo em parte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s então veremos face a fac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16000" y="2451960"/>
            <a:ext cx="627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É só o amor! É só o amor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 conhece o que é verdad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23:24:41Z</dcterms:created>
  <dc:creator>claudemir</dc:creator>
  <dc:description/>
  <dc:language>en-US</dc:language>
  <cp:lastModifiedBy>administradorr</cp:lastModifiedBy>
  <dcterms:modified xsi:type="dcterms:W3CDTF">2010-11-30T18:31:05Z</dcterms:modified>
  <cp:revision>2</cp:revision>
  <dc:subject/>
  <dc:title>MONTE CASTELO</dc:title>
</cp:coreProperties>
</file>